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515-6372-4B4E-B010-4E93F39C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754-737A-4E67-B5C9-2C55C173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C88-7778-4D42-92CF-C8FD07FB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48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16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48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16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8E1-5C7E-42AF-AF8C-B9151A89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3D5F-FDEE-4EDD-A951-D1EB5D1D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39B-8B19-471C-949F-B11B7688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FC68-3144-4B5B-8669-D71F0B1F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48BF-E286-4176-B90D-0AE65BEB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E85E-1CA0-4313-AA1B-EFDDFAF8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696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F41E-1E18-4E8A-84E8-530FC2B8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E26E-1A59-43C7-88E4-8C2FE6E7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525-8F7C-4E20-9330-DB287510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5AFB-D78C-44A4-A693-3303402D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B331-0C6A-4B99-94EA-BCAB166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BC71-B039-41EF-998B-66D53EDC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A554-A401-46DD-BEAF-47E4061A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248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416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1430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248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416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2092-1C9B-402F-819B-C9BF44FC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66B-4FB2-407B-905B-F19091A1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6DA-1EBA-4A1E-841C-1796EC9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2F9-4DB8-41B3-AB2A-4E4A049B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696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44B-2D86-46F1-A500-54D90884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896-9A67-4222-ABD3-03210DEA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CD6-B325-419C-B47C-1638536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5ED-B768-4726-A6D7-457F60FC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36"/>
              </a:spcBef>
              <a:buClr>
                <a:srgbClr val="669999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36"/>
              </a:spcBef>
              <a:buClr>
                <a:srgbClr val="cccc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36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36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12E4-4C5B-4B37-8D57-85C28B8668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7B84-6625-478A-BED5-CDFB8D6DC6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Aft>
                <a:spcPts val="689"/>
              </a:spcAft>
              <a:buClr>
                <a:srgbClr val="cccc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27296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EBSCO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utorial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4495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upport.ebsco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915400" cy="337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5108400"/>
            <a:ext cx="807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a free web page creation program, entitled Page Composer. It allows you to create customized web pages that can include Result List items, a search box, imag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ive page graphics, which can be used, for example, as assignments to stud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en posted to another web site). The Page Composer program is exclusiv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from within the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der, where web pages cre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this tool are stored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0" b="11695"/>
          <a:stretch/>
        </p:blipFill>
        <p:spPr>
          <a:xfrm>
            <a:off x="152280" y="838080"/>
            <a:ext cx="8839440" cy="399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14400" y="5610240"/>
            <a:ext cx="739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includes a useful chargeback feature, allowing you to track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ssion usage times for charging back clients. The us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information can be printed or emailed to destin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you specif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2133720"/>
            <a:ext cx="2209680" cy="457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0" b="3648"/>
          <a:stretch/>
        </p:blipFill>
        <p:spPr>
          <a:xfrm>
            <a:off x="95400" y="685800"/>
            <a:ext cx="8896320" cy="487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576252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to view the complete online help manual, and visit the EBSCO support site at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ttp://support.ebsco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browse our Knowledge Base of FAQs, download Help Sheet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Guides, view online tutorials, or see what’s new in our Top Stori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oncludes the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uto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58200" y="609480"/>
            <a:ext cx="533520" cy="3812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561024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the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torial, which demonstrates how to set up and make the most of the free personalization (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folder, allowing users to extend the usage of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 results beyond their current sessio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ized folder accounts are simpl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up, and can be created by any user accessing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731880"/>
            <a:ext cx="8686800" cy="4754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15144"/>
          <a:stretch/>
        </p:blipFill>
        <p:spPr>
          <a:xfrm>
            <a:off x="219240" y="838080"/>
            <a:ext cx="869616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71500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ddition to search results,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s can store Images, Video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istent Links to Searches, Saved Searches, Search Alerts, Journal Alerts and Web Pages created us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SCO’s free Page Composer program.  From within the Personalized folder, us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print, email, save, or export search results, images or vide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11695"/>
          <a:stretch/>
        </p:blipFill>
        <p:spPr>
          <a:xfrm>
            <a:off x="152280" y="838080"/>
            <a:ext cx="8763120" cy="396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80880" y="5670720"/>
            <a:ext cx="838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’ll begin by clicking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 In to My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m a new us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and fill in the fields.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Once your information has been accepted, you will automatically be logged in as a personalized folder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133720"/>
            <a:ext cx="1067040" cy="457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685800"/>
            <a:ext cx="1523880" cy="457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0" r="0" b="11631"/>
          <a:stretch/>
        </p:blipFill>
        <p:spPr>
          <a:xfrm>
            <a:off x="228600" y="762120"/>
            <a:ext cx="8686800" cy="466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5762520"/>
            <a:ext cx="853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conduct a Basic or Advanced Search after logging in to your personalized folder, you can save particular Result List items to your personalized folder by clicking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to fol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to the left of the relevancy bar for each article. These saved search results can be examined more closely at a later date, as well as printed, emailed or saved to your compu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048120"/>
            <a:ext cx="9907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763120" cy="5078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920" y="5899320"/>
            <a:ext cx="845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clicking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ert/Save/Sh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and then click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search to fol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you can add a persistent link to a search to your personalized folder, which can then be emailed, saved or clicked later on to run the search, showing any new results that have been added to the database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762120"/>
            <a:ext cx="2590920" cy="1295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798480"/>
            <a:ext cx="8763120" cy="500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" y="601992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lick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 History/Aler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low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, you can save searches to be retrieved for later use. You can also print your search history by clicking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t Search Hist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2362320"/>
            <a:ext cx="137160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2362320"/>
            <a:ext cx="152424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5680" y="762120"/>
            <a:ext cx="8906040" cy="4657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8600" y="568656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save your most recently conducted Advanced Search as a Search Alert and have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mail you with any new search results. Search Alerts can also be retrieved from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used to conduct the search immediately, eliminating the need to wa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future alert results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033" r="0" b="8037"/>
          <a:stretch/>
        </p:blipFill>
        <p:spPr>
          <a:xfrm>
            <a:off x="152280" y="719280"/>
            <a:ext cx="8839440" cy="48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5638680"/>
            <a:ext cx="8610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the Publication Details page of most journals represented in the database you are searching, you can set up a Journal Alert, which will be kept in your personalized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der until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 it. Journal Alerts provide automatic notification via email whenever a new issu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ecified publication has been added to the database, eliminating the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ally check the database for new iss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42:47Z</dcterms:created>
  <dc:creator>Jonathan Williams</dc:creator>
  <dc:description/>
  <cp:keywords/>
  <dc:language>en-US</dc:language>
  <cp:lastModifiedBy>EBSCO Employee</cp:lastModifiedBy>
  <dcterms:modified xsi:type="dcterms:W3CDTF">2009-02-02T20:19:57Z</dcterms:modified>
  <cp:revision>35</cp:revision>
  <dc:subject/>
  <dc:title>CINAHL Basic Search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2137211033</vt:lpwstr>
  </property>
</Properties>
</file>